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810-F6C1-41C1-B0FC-63C89FF2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9B7-40A7-49E7-9499-A478BA9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C317F-DEE2-4E3F-A952-6E647229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6BE2C-A11A-408F-A705-BDA9E3C3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2F204-9DDB-4994-BD7C-B1E688A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7058-EA64-405C-995D-B6C561B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2B760-3ACD-4354-A60E-F327ADB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FB988-7369-47DC-AA59-6826C03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2754-8722-4369-8411-7CD24E9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C7B12-B3B2-40F2-9371-7697F9A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D111-CD20-4064-9BC9-2998D068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E83E7-6CFD-4714-8C8C-D2E87DD5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AD7-0AC5-47AA-8E67-6AF6595A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15785-D798-468D-A74F-9E48A78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3B13B-6F69-4E32-B0B4-2CF9D7D5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8D677-328A-4068-8440-A506B5C6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54CC5-7D05-46E4-9129-15D5FC2E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6D76-76F6-4AAF-AF3D-F500496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B8E56-2456-48DC-9D9A-0AA7C99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C0D58-EDDC-47C7-A078-AE30FC4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C8ED5-0C2A-4778-B036-A32598C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16C8D-2D31-4A18-B941-12CDF41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B488-FCB4-4028-A666-F38E502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AA5-734B-440B-9D93-01FB0D45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1065D-E896-4D19-B4A4-2FB10EC2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7B633-FD97-4D2B-A61F-871CA9F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CBF32-06BB-4BDF-88BD-07E6DDC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8164A-2D23-4BEC-B424-5C956F8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AC86-F2A6-49D0-B2C1-126D652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F2D2-BFC5-44CE-9813-404BFB7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EA74A-AD6E-4C7C-AC73-74E2C6DE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D3D1-EA07-4799-8439-D007330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9FB20-1D2C-4845-BFD2-BF80601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45663-F50D-4A3B-A89A-18B6EC8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EAF3-E28D-43C9-A669-7F1F49B1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4FE5E-F83F-4571-BFB5-4170240B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B28B7-1A16-464B-A2F7-3FB29326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65C7-04CF-4D6C-8542-6000B49A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329A2-6CCF-4F98-B71E-E6A78BC4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D9F74-F111-4D39-A1C6-F3B1557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CBA4D-E0F8-41ED-A013-32F87FC8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DCEB-3134-4293-B52A-84F64A3A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997F5-C231-4E59-A08F-71447B7A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408FC-22A4-4E78-8177-0569B78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0E854-8EC9-4831-BD08-410BD18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423-E12D-47A3-9AE2-1BAFB1A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A3DB2-0B64-47DD-A202-E3EC998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226EF-4321-403C-91F9-2983ED40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AB408-BB67-4119-860E-66D3AC5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2E3E0-A966-4C16-B553-E6E80838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91D0D-2CF4-4F06-8BF0-23717023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6D232-DBF1-4D01-A002-58167D3F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E19F-C797-42E2-A5FF-91AE954A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DFF28-1779-4A16-B987-2BE88ED6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97D2-1F9B-4182-8955-C7C790D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140A9-89A2-4D88-BFAA-683C0E0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0A1-5DCB-485E-9BA8-5606C36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6EB21-8BC5-47F3-ACB1-30493D5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275D3-3B9F-49AB-B715-0F78080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965AB-4700-4763-8B2A-0161197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7D2DB-D287-4526-BD8A-BB5F6BF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04B86-4663-4094-B596-09CA9CA3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741BC-D9BF-41AE-80C6-2D0CE81A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DF657-60D2-4883-8466-FE4B7AF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80E4C-6D0B-471B-96FD-A040237D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EDA72-088A-4EA4-9F00-511A38C2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8B296-1C1B-4F6C-B7B9-FB9CA023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B49A-AC79-43A6-89C3-30171C7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585B4-67B7-4330-B13C-BB64B9E3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ED52D-3FBB-4310-B259-2D9F79E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57717-CCAF-449F-9FF3-008FDD5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B4C54-02F2-4A64-AC13-45A7650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3A93C-4FE2-489B-91B3-40B33C7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C553D-7AB1-4616-AFB7-36413C4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7E618-329E-47FB-9B31-CCB723D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879CC-9DEA-4FC3-B3DB-2EB2D0D0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320D3-C521-4CFA-A76A-20A9AEE5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6158F-153E-4956-A8AA-AF0E5074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0060-E72E-4DC8-BF3E-ADFD44DF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65A3A-4BD1-491E-B5E7-235944A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BC3CC-D88A-429B-846D-9CC6A5F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0D406-09B6-415D-9E89-BB160AEA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5EEDD-1E7E-4A74-8E8B-73B8BE71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777B0-702A-4AF7-BD66-B2160FA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E7AF0-3CF2-4A0A-9FF3-CA6DBF9B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A0CB0-9B73-4226-A7A6-D793800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AD5D5-9F39-46BB-9125-EC1011D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22C66-714B-4F00-9915-52D78000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E7F34-DEE7-4507-BEAE-95957CA1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0330-D92F-4714-9483-2A5B819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267C0-40F9-4173-8DC8-6B9F6D2E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CDF8C-5978-4964-BDF6-9ACD1755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4117E-6D22-4D28-8190-2598F19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C9FE5-7A56-4558-858E-4C1E3361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2CB1D-14C1-4681-8C4A-C477042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B0F0F-8CD2-446D-A996-CD3D046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D8972-3A44-4250-9A2A-348470F8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6B8C9-C648-44F2-AA50-35B3746E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1A550-9122-491F-8C05-E11CEF16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B7838-CF82-44F8-8E5A-1DD13F0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38FF-1BA7-4112-B72E-B5959E2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DDDAA-A677-4953-9751-0F5CC9EE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4065B-A825-479F-A495-254CF529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7EDAF-A50A-43C3-AE21-34A1702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5B849-9969-4E3D-9974-5E7DFB0A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96123-598F-49BB-BB60-7BA9139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F4B13-51CB-45B0-B501-CF71154B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6F6AF-17D0-4E16-A772-7C22BDF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33308-47BA-47AC-9A74-835B0B9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356F2-B395-4D75-9B91-3607BEAF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7D961-AA31-466F-B4B2-8CF73D6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E3B-E0F8-4875-AFA7-D901820B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BE90-8E43-47DF-A0E3-F6F2BAD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A4C29-18CA-4302-89EB-4CBCEBD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00A37-FD21-43D7-97FB-ED56F2EA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74633-0F26-46FF-9FE4-7E772AE8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C6E69-3D5A-4A7F-8905-7E5D92BB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BE866-AE84-4329-AAA9-D4EF1DBC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29463-0859-4F98-9C3E-5D42C8B6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FA481-45F4-49B2-A2F5-A3C80AE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0B64E-7785-4481-A407-BBEF05E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994C8-1B3A-4FC5-901F-4F300FD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EDC6B-7D98-42A6-8ABA-F0E994CF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084F-4932-4A03-A632-A50772E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FF164-DCC9-4666-8116-0AE10CB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3308F-2CB7-483A-AC94-6C1BDC6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6A0EE-DB4D-4C84-9098-DC5F6A9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1D23B-E9C3-4647-9582-3DA746A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00B3C-81B9-445B-A468-97F051A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2E1E0-5995-4AF4-9D3F-C4754029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B5DDC-DBD8-4BB0-BDC5-C90F58F3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B4DF0-4F52-4AC5-AFDB-2F87023B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C0245-2E80-4EE4-B6B3-F9279F1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117C1-C543-46DB-AB31-4F1FDB8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8C9-3F70-410E-963B-3660FB52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2C124-420D-4AD6-8B3C-12165FB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1C18C4-C0AA-4A7F-B6C9-12A95C4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A74BE-5A04-4580-981E-3D20C28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1069A-ACEC-4603-8E19-35C6796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096C5-C508-4DE1-A02B-B08039E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7F992-883B-4794-91FE-8615AB9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0791C-7576-4B20-AD9C-F11A05A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60882-FB35-4D2E-8677-2F16AA20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0EE4E-1BDD-472E-94C5-4E26ACE1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833DD-8A22-4182-A993-5258CB5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CD7-552F-41CF-8456-DC2A6BCD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571B0-8136-49BA-8E5D-5B84908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A0435-030A-4165-9219-53D43A36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6288F-27B1-4DD4-826E-A159676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BD843-E9BD-494B-BE8C-B7A97B37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C04CF-2F1D-4889-B796-2665996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E4DE0-ADCB-48F5-9D4E-4E05E46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76DFB4-AD45-4453-8F60-9DAF749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71B80-F7B7-4CCC-9F8C-C7BF822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C6DC0-A0DD-4076-978E-D911A1A1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89604-5762-4AB6-B1E5-D401894E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E6C-B280-4CF0-9B70-C62DAFDD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5D8D8-336B-4E46-8EDF-85D81145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9E6BD-B4DB-4AF5-B49B-718F5F5B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7D6D11-7B72-4437-B330-A7A3703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06530-87FF-43DA-8D35-31966CFD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0DBF4-E0B2-4E8B-B55B-124A0ED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0048F-0330-49A4-A72E-4DB5D133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424DD-2E82-4B98-85F8-EAF7012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B81D8-38F4-428A-A387-8E0D31F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1E37C-AEA1-4E79-8851-000615D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C774C-964C-483C-BE1A-4F5AD65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2F37-9D5D-4FC8-9640-1033F6C9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364A4-E83C-47E4-BEF0-F14E45C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7D988-C47E-403B-AFB1-167AE7C2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FC049-B874-486F-9058-211E35A8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FFD7-AAAF-4E71-AC1F-92EF2DA7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63E9-892E-49D0-BBC6-C38A6A19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D109-8B46-4046-A0BA-0BDC4AFB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6C59-48B1-492F-AEC9-D247C9C4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1EF-1B89-4C26-A174-DFD4174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E493-0BD3-49C9-941B-29C1C6A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A294-EDDC-47C8-9EDA-7F1777F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92BA-994D-4E14-A084-68AA921E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46E6-2AF4-4A23-8D73-AC06710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BD84-D3A2-4CA3-9552-A81AAD3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BC3F-B947-40A1-8DA8-DCFC46A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2526-7640-40BE-BF40-C4A268E0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DDDB5-71DF-45F0-94CA-0B18FE00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41CC-E16F-472A-B6D0-816FE9F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A5D7-7DA2-4C19-9557-64C8B53B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D63-49B0-4CF5-AC8A-E74FA850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5F0F-3F59-4EFB-846A-E65D538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EB3B-7B72-43D6-BC0B-819FEE4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CFD1-A7AE-488E-9894-1D0CD4C1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8FC8-7718-4C44-BE7A-590DB55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7120-0361-4593-A2AC-06056F5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C05C-A873-4C38-ADBE-DDABE537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2313-6F95-453B-BF3B-96088E7F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739E-2D0F-4439-B59E-BEBDF9E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0F9B-7E5D-4D8C-A7E2-6FFE9317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3B07-482B-4DAD-BC07-1B324B43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0E1-0F63-4872-9E12-A65A5108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E2EE-69F2-4E67-BD3D-9DCDD300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F030-653A-419B-84FD-E5C1DBC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6EC1-5759-47F1-8AB2-1400C000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B6D0-DD4A-4AD1-94AF-32ECB7E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B55B-AC35-4CB0-92A6-8F95E61D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260A-20D3-4127-8485-C32F60F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17ED-D049-4C41-A77E-67B1A593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B663-E397-4CFD-AC4F-9339098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86E4-58E6-4553-8F54-7BFA54F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96C0-5139-4D34-9EAC-53529D29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C05-C76C-47E4-9F19-F04CADA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3209-E0F6-4550-8EDA-F5F1AB1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2EC5-F155-4176-9B0C-FBB85933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1E56-F3E3-4D34-B7F2-5C86CC99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9F2C-9CB0-4E7D-8424-6B334535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11F2-7CEA-46AE-AF63-D1145D5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A04A0-377A-449E-A93B-2DAAA5EE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ED1B4-2556-4304-8F23-94C66887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899D-D696-427D-BF9F-D3E0AA4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9E9B-AF4C-45E0-877C-894B45C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2DAFF-909D-48DC-B295-7C18949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301-6179-4714-82FD-10E0A3C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92BF2-FB53-48C0-A05B-5EF1121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88C7-D52C-430D-9D11-E7C142D8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12AFF-ADF0-4C68-AEBD-D320C8B5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775B-8C4E-44A1-A32E-C7B31E1F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21A3-28CA-4A11-ACF0-9563F62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4C4B-FCC8-45D3-9B99-CCE2DE8F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318F-9FBE-4D81-AE3D-55F2C884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A098-7CC0-4048-A733-9A2FEFB7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F8D0-E6C6-4A79-8DB2-0A53B856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5477-A8EF-4FB3-877F-85C5CD5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8AC-6B3E-46F0-A95D-A50814C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36382-06A6-4F87-B4F2-9B2D923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7773-7EDD-4CD5-990B-CD80FF83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33EA4-76FC-4F66-901E-57EF7B1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63C7-AD94-48FB-97E2-353BE37C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60172-A16A-4219-9C02-B4EDBC16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C500-C11A-443A-BA6E-0EE0F7CD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0C5A-EBFE-412B-B0F2-E6059853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2B238-D0A5-4D73-99CD-4F6859F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1946A-E789-4F9B-8461-CBC1F81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DE92D-3327-4339-8C21-061A108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C09-2872-4EC9-80D8-8DAEBC0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541C-6C72-4A48-A984-318E6983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D634-76DD-4B56-8B51-C664AE8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662C-F0A1-41A0-995A-14395C6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ED70D-8677-48EE-B7D3-D7CF7C2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5C1B-A6F9-445F-8FE0-17D1BBD9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5A868-DA74-4D31-89B5-3311E498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156A-C9A0-4425-9FE2-1B2DEAE5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ED999-0800-4A19-AF64-17F15936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A1803-3F8F-4755-8D51-44D004CF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358BE-8C67-4B0E-9F0E-7FD52D0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6067-4EE8-465D-B441-079EB91B2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028-C88D-4B7A-87FA-32FE19FA7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DD0-47F1-40F2-A38F-94D04826B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1181-E6B2-4A77-9D96-D31FC9961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9EB-CADD-4A6F-9168-168671F40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476-69A1-4E3B-89E2-D8E6BB36D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0272-5ED1-42E1-91B4-FE9C3BC6F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18A9-55F8-4F5E-A1DC-4CF16CE99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8493-ECF8-4419-B2F0-86F233CAD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A300-0015-4CD8-A503-226F1060A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33FA-6262-4272-AF9F-B5FD99F30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6F06-6F38-4203-AA2F-E41CD87F7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F24-35FD-4E13-A9B4-103C59252C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DDE-D727-4CDD-9FEC-D91EFA2A8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781-7B57-4D4E-9620-34CD8264E1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52D-DC7C-4C4A-85BD-EFC4F24AD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7CB-26B3-431A-9115-1E6527C74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7A74-95F0-4FF4-9E56-5EC32D8E8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94A-E72A-4BC0-8195-13FDF416C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1F1-2E35-45EE-8630-7B17415A0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A6C-0A67-4CAC-AB22-EB1FF42FC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D32-78BB-43C6-BF43-727EC22E3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252-BA84-4C17-B1D6-E5CD229342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F4F-D241-450A-BA48-20853110B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62B-3885-49A5-82E8-6616FD25A2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05B2-5213-424D-8713-1E014B391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7349-FEF6-44BC-8C9E-4B24F82A2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A7A-294F-4C14-854C-AA2846D36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B0DB-E2D7-48A3-999C-24273EB30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76C7-1EB7-4618-8748-AE65F4534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19C-17EF-475C-A39C-09649940B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A90-76D2-4BD6-A0A7-36E5D3D79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BBC-217C-4D8D-8B4C-D770C05C3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4E57-899B-4CB2-9F0D-3129060D1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0E7A-DEAB-4357-B986-4957C6459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AB5-AA7D-4B90-A72E-DEE23FD1F2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345-D77F-4158-8E49-A9A7D8368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A1CA-59FC-45ED-85B3-4B8627C2D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08A9-692A-4AED-867E-80BA4FDEC0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F31-3529-41FB-92DA-ADF553A28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24160" y="1844640"/>
            <a:ext cx="6295680" cy="10288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176480" y="3613320"/>
            <a:ext cx="67910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1128600" y="1500120"/>
            <a:ext cx="6886800" cy="3857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424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68609" descr=""/>
          <p:cNvPicPr/>
          <p:nvPr/>
        </p:nvPicPr>
        <p:blipFill>
          <a:blip r:embed="rId1"/>
          <a:stretch/>
        </p:blipFill>
        <p:spPr>
          <a:xfrm>
            <a:off x="461880" y="866880"/>
            <a:ext cx="8220240" cy="51242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4680000" cy="1008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7236000" y="2722680"/>
            <a:ext cx="576000" cy="936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576360" cy="9367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1476360" y="5027760"/>
            <a:ext cx="576360" cy="936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5508720" y="5027760"/>
            <a:ext cx="1008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67585" descr=""/>
          <p:cNvPicPr/>
          <p:nvPr/>
        </p:nvPicPr>
        <p:blipFill>
          <a:blip r:embed="rId1"/>
          <a:stretch/>
        </p:blipFill>
        <p:spPr>
          <a:xfrm>
            <a:off x="247680" y="1209600"/>
            <a:ext cx="8648640" cy="44388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5076720" y="314172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1979640" y="50706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5076720" y="501336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9880" y="917640"/>
            <a:ext cx="8544240" cy="5391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109960" y="592128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124000" y="5373720"/>
            <a:ext cx="576360" cy="439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57600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514760" y="5402160"/>
            <a:ext cx="576360" cy="439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093080" y="593568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107120" y="5388120"/>
            <a:ext cx="5763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733320" y="2467080"/>
            <a:ext cx="7677360" cy="1923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132000" y="32274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7308720" y="322740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04800" y="1157400"/>
            <a:ext cx="7934400" cy="4543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647720" y="32130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1706400" y="267984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3879720" y="31989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938760" y="266544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948360" y="32130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7007400" y="267984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8"/>
          <a:stretch/>
        </p:blipFill>
        <p:spPr>
          <a:xfrm>
            <a:off x="5003640" y="397656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9"/>
          <a:stretch/>
        </p:blipFill>
        <p:spPr>
          <a:xfrm>
            <a:off x="2987640" y="4508640"/>
            <a:ext cx="936720" cy="431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0"/>
          <a:stretch/>
        </p:blipFill>
        <p:spPr>
          <a:xfrm>
            <a:off x="6443640" y="450864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1"/>
          <a:stretch/>
        </p:blipFill>
        <p:spPr>
          <a:xfrm>
            <a:off x="4211640" y="504180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2"/>
          <a:stretch/>
        </p:blipFill>
        <p:spPr>
          <a:xfrm>
            <a:off x="6227640" y="5027760"/>
            <a:ext cx="9367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642960" y="1133640"/>
            <a:ext cx="7858080" cy="4590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735200" y="292428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2843280" y="321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797440" y="289548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905520" y="31845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6905520" y="26082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5148360" y="3889440"/>
            <a:ext cx="576000" cy="498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4788000" y="443700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4140360" y="4970520"/>
            <a:ext cx="576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6324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96360" y="265104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667640" y="350028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667640" y="5070600"/>
            <a:ext cx="576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5300" descr=""/>
          <p:cNvPicPr/>
          <p:nvPr/>
        </p:nvPicPr>
        <p:blipFill>
          <a:blip r:embed="rId1"/>
          <a:stretch/>
        </p:blipFill>
        <p:spPr>
          <a:xfrm>
            <a:off x="609480" y="2562120"/>
            <a:ext cx="7925040" cy="17337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7236000" y="3573360"/>
            <a:ext cx="576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4276" descr=""/>
          <p:cNvPicPr/>
          <p:nvPr/>
        </p:nvPicPr>
        <p:blipFill>
          <a:blip r:embed="rId1"/>
          <a:stretch/>
        </p:blipFill>
        <p:spPr>
          <a:xfrm>
            <a:off x="290520" y="766800"/>
            <a:ext cx="8562960" cy="5324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1533600" y="4149720"/>
            <a:ext cx="2808360" cy="1224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280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2231" descr=""/>
          <p:cNvPicPr/>
          <p:nvPr/>
        </p:nvPicPr>
        <p:blipFill>
          <a:blip r:embed="rId1"/>
          <a:stretch/>
        </p:blipFill>
        <p:spPr>
          <a:xfrm>
            <a:off x="495360" y="1433520"/>
            <a:ext cx="8153280" cy="3990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7451640" y="3745080"/>
            <a:ext cx="576360" cy="498240"/>
          </a:xfrm>
          <a:prstGeom prst="rect">
            <a:avLst/>
          </a:prstGeom>
          <a:ln w="0">
            <a:noFill/>
          </a:ln>
        </p:spPr>
      </p:pic>
      <p:grpSp>
        <p:nvGrpSpPr>
          <p:cNvPr id="967" name="组合 52235"/>
          <p:cNvGrpSpPr/>
          <p:nvPr/>
        </p:nvGrpSpPr>
        <p:grpSpPr>
          <a:xfrm>
            <a:off x="839880" y="1427040"/>
            <a:ext cx="7467480" cy="2024280"/>
            <a:chOff x="839880" y="1427040"/>
            <a:chExt cx="7467480" cy="2024280"/>
          </a:xfrm>
        </p:grpSpPr>
        <p:pic>
          <p:nvPicPr>
            <p:cNvPr id="968" name="图片 52233" descr=""/>
            <p:cNvPicPr/>
            <p:nvPr/>
          </p:nvPicPr>
          <p:blipFill>
            <a:blip r:embed="rId3"/>
            <a:stretch/>
          </p:blipFill>
          <p:spPr>
            <a:xfrm>
              <a:off x="839880" y="1427040"/>
              <a:ext cx="746748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1" descr=""/>
            <p:cNvPicPr/>
            <p:nvPr/>
          </p:nvPicPr>
          <p:blipFill>
            <a:blip r:embed="rId4"/>
            <a:stretch/>
          </p:blipFill>
          <p:spPr>
            <a:xfrm>
              <a:off x="4859280" y="2952720"/>
              <a:ext cx="2233800" cy="49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2700360" y="4221000"/>
            <a:ext cx="792000" cy="498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3044880" y="4681440"/>
            <a:ext cx="288720" cy="498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4284720" y="4724280"/>
            <a:ext cx="288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1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